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F81-60E6-49E8-9F29-BF500761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9A3-469A-43DB-9D48-E96E1831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6D0-0B7B-471B-BB1E-08966AB3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129-1BD4-478A-A08B-EF5434F9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420-55C3-4375-924F-BC8E0E7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982-00EA-4AF3-A638-EA4BF218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A20-F11A-442B-8A27-7025EE64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807-F66C-4068-B9FC-CA8B74FB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1EF-44EC-4099-80E9-A9F39B3D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C3C-B7FE-4466-B470-D6DF0250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B77-C171-4352-ADB2-EBAA7492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00F-8FC4-474A-895C-DDE26451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57D9F-9F07-4530-B059-767C058CF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placeh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4T02:25:34Z</dcterms:created>
  <dc:creator/>
  <dc:description/>
  <dc:language>en-US</dc:language>
  <cp:lastModifiedBy/>
  <dcterms:modified xsi:type="dcterms:W3CDTF">2015-09-04T02:26:19Z</dcterms:modified>
  <cp:revision>1</cp:revision>
  <dc:subject/>
  <dc:title/>
</cp:coreProperties>
</file>